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EF6A-B549-4FBD-857A-1D6658E21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6541-2027-4934-BC63-D8A3BD41D9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A622-B4A1-4399-B7A5-2BEA1C95F1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4167-9064-4EFD-8705-5F831E9DB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932E9-C5CB-4861-8C9E-EAB97991B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60D5-3D61-494C-89B9-9050D9D05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C6C42-C189-448A-97F0-64259AD67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4FCB-14B8-4590-82F1-504A4051A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64C5-FD11-438E-BFFD-BC914628E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F5F8-1804-4052-90B8-D1A155A01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4426-1266-4FFB-9615-05A6BC97D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7208A-0F2E-4101-B511-755177920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67F7-C933-41BC-BC12-CA1B59047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759FD-E4A4-4879-93DA-EAD978D06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AC42-E4AD-41A5-AC5B-35318CED4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44DB-FF09-4759-92C5-9B0A0BB2685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9" descr="intelEDU_wht_lrg [Converted]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2"/>
          <p:cNvSpPr/>
          <p:nvPr/>
        </p:nvSpPr>
        <p:spPr>
          <a:xfrm>
            <a:off x="939960" y="637236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intelEDU_wht_lrg [Converted]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457200" y="6539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cmcguid.htm" TargetMode="External"/><Relationship Id="rId2" Type="http://schemas.openxmlformats.org/officeDocument/2006/relationships/hyperlink" Target="http://www.utsystem.edu/OGC/IntellectualProperty/copypol2.htm" TargetMode="External"/><Relationship Id="rId3" Type="http://schemas.openxmlformats.org/officeDocument/2006/relationships/hyperlink" Target="http://www.copyright.gov/circs/circ1.html" TargetMode="External"/><Relationship Id="rId4" Type="http://schemas.openxmlformats.org/officeDocument/2006/relationships/hyperlink" Target="http://www.benedict.com/" TargetMode="External"/><Relationship Id="rId5" Type="http://schemas.openxmlformats.org/officeDocument/2006/relationships/hyperlink" Target="http://www.utsystem.edu/OGC/IntellectualProperty/faculty.htm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empletons.com/brad/copymyths.html" TargetMode="External"/><Relationship Id="rId2" Type="http://schemas.openxmlformats.org/officeDocument/2006/relationships/hyperlink" Target="http://www.duhaime.org/diction.htm" TargetMode="External"/><Relationship Id="rId3" Type="http://schemas.openxmlformats.org/officeDocument/2006/relationships/hyperlink" Target="http://www.copyright.cornell.edu/training/Hirtle_Public_Domain.htm" TargetMode="External"/><Relationship Id="rId4" Type="http://schemas.openxmlformats.org/officeDocument/2006/relationships/hyperlink" Target="http://www.utsystem.edu/ogc/intellectualproperty/copypol2.htm#mm&#x0d;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opypol2.htm#course" TargetMode="External"/><Relationship Id="rId2" Type="http://schemas.openxmlformats.org/officeDocument/2006/relationships/hyperlink" Target="http://www.utsystem.edu/OGC/IntellectualProperty/imagguid.ht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pyright Chao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ubTitle"/>
          </p:nvPr>
        </p:nvSpPr>
        <p:spPr>
          <a:xfrm>
            <a:off x="2666880" y="3429000"/>
            <a:ext cx="60199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Educator's Guide to Copyright Law and “Fair Use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esentation created for th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FC11-D0CB-485D-83BC-D0807645894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ttribution and Acknowledgemen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 your sources and display the copyright noti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© and copyright ownership inform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-22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ing the sour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1444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ive a full bibliographic description with the information that is available (including author, title, publisher, and place and date of publication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-22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play copyright noti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1444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der pictures, add the copyright ownership informatio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© (the copyright notic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ear of first publi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me of the copyright hol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022760" indent="-368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ple: © 2001 Company/Person’s N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2AA6-C3C7-4EEF-A3CF-2954414118F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uture Uses Beyond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f there is a possibility that a project could result in broader dissemination (for instance, publication on the Internet): obtain permissions when you create it, rather than waiting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28960" indent="-22752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mple permission letters are available on the Curriculum Resource C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31360" indent="-301320">
              <a:spcBef>
                <a:spcPts val="10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Resourc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,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Copyright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copyright ow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parents to publish studen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 example letter to use in this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03F1-2EBD-41BC-90B4-A01E628B14D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member... these are guidelines, not law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the further you venture from these guidelines, the more likely you are to be outside of “fair use.”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2348-6A81-4C0E-9AA9-C75EB96908C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hat about software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of software does not fall under fair us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less you have specific permission from the copyright own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 is illegal to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rchase a single user license and load it onto multiple computers or a serve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wnload copyrighted software from the Internet or bulletin bo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ad the software your school purchased onto your computer at ho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D295-9BE3-41DF-B813-3CDB69892D0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itional resources to help you and your students understand and follow copyright law and fair use guidelines are located in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sources, Copyright Resour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Educational Multimedi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pared by the Educational Multimedia Fair Use Guidelines Development Committee, July 17, 1996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cmcguid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Of Copyrighted Materials” by Georgia Harper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copypol2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Basics” by the U.S. Copyright Offic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gov/circs/circ1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pyright Website” by Benedict O’Mahoney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benedic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Law in the Electronic Environment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5"/>
              </a:rPr>
              <a:t>www.utsystem.edu/OGC/IntellectualProperty/faculty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91C7-8286-4198-A3E5-801D3CA2BB1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ig Myths about Copyright Explained” by Brad Templeton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empletons.com/brad/copymyths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haime's Legal Dictionary” by Lloyd Duhaim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duhaime.org/diction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Term and the Public Domain in the United States” by Peter B. Hirtle, Cornell Institute for Digital Coll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cornell.edu/training/Hirtle_Public_Domain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Digitizing And Using Others' Works In Multimedia Materials For Educational Purpos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utsystem.edu/ogc/intellectualproperty/copypol2.htm#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D6ED-9453-4806-AD16-EF995D25B11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Coursepack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opypol2.htm#cou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Proposal For Educational Fair Use Guidelines For Digital Images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imagguid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 of Links to Other Copyright Sites by Georgia Harper, University of Texas www.utsystem.edu/OGC/IntellectualProperty/offsite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Multimedia” by 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ducation www.intel.com/education/newtotech/fair_use_multimedia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152E-BF26-4875-8591-D1979F2BA5E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formation on 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ct Sheet on School Software Use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pubs/SchoolSoftwareUse.p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gital Anarchy: Part One of an Analysis of Software Piracy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David Lapr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avault.com/articles/getarticle.asp?name=warez1&amp;page=1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Federation Against Software Theft (FAST)” (United Kingdom organization) www.fast.org.u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ti-Piracy FAQ” 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faq.as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missible Copying of Software” by Georgia Harper, University of Texa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www.utsystem.edu/OGC/IntellectualProperty/mono2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0AF8-0559-4426-8204-6EE1575CA9C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se of this Pres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s presentation is copyrighted by Inte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t may be used, with copyright notices intact, for not-for-profit, educational purpos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intelEDU_wht_lrg [Converted]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457200" y="6539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066D-98C0-40F0-B50E-15A99DAF2FA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hat is copyright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exclusive right to produce or reproduce (copy), to perform in public, or to publish an original literary or artistic work.”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uhaime's Law Dictionary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lmost everything created privately and originally after March 1, 1989 is copyrighted and protected whether it has a notice or no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334C-875B-4E73-9EB1-B3F1035C1DD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tems Not Copyrighted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233640" indent="-232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s of what are not protected by copyright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that have not been written or recor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as, procedures, methods, discoveries, etc. as distinguished from a description, explanation, or illust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consisting entirely of common information or compilations (for example: standard calendars, tape measures and rulers, telephone book, etc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ems in the public domain (all works created before 1923 and most between 1923-1963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t U.S. government materials (some items created by contractors for the government might be copyrighte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33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0520-4AF7-4D78-8119-B3484D77C73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Cla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ir use is a part of the United States Copyright law. It allows people to use and make copies of copyrighted works if they are using them for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iticis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s repor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ach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holarsh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Sec. 107 of the Fair Use Provision of the Copyright Act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42FE-93A8-4468-B88E-8F035DEB6CB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ur Factors Help Determine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purpose and character of the use, including whether such use is of a commercial nature or is for nonprofit educational purpos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ou must be using it for educational use, not just using it in a school environ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nature of the copyrighted work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ir use applies more narrowly to highly creative works—in comparison to those that are mostly fact-based in na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amount and substantiality of the portion used in relation to the copyrighted work as a who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sideration of quantity &amp; quality...using only what is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necessar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and not the  “heart” of the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effect of the use upon the potential market for or value of the copyrighted wor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copying should not harm the market for the original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pying materials from “consumables,” such as workbooks, weigh heavily against fair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2A0A-AAB2-4928-8C4A-15D603CE899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ffffff"/>
                </a:solidFill>
                <a:latin typeface="Verdana"/>
              </a:rPr>
              <a:t>Fair Use Guidelines for Educational Multimedi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was created to provide guidance on what actually falls within fair 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it i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t a legal docu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n interpretation of the law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pplies to educators who produce multimed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BACB-72B8-4C92-AFB2-8C0F4E61F0F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for Student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and educators have separate guidelin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their own educational multimedia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a specific course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rform and display their own projects in the cours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which they were created; a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m in their own portfolio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s examples of their academic work for later personal uses such as job and school interview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ABEC-ED29-472F-BAD4-0828B175822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ducator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ducator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educational multimedia projects to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pport their teaching nee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ir projects indefinitel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the following purpos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perform or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splay in presentations to their peer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 for example, at workshops and conferen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tain in their personal portfolio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or personal uses such as promotion or job interview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ir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teaching, for a period of up to two year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fter the first instructional use with a clas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structional use beyond that time period requires permission for each copyrighted portion incorporated in the productio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E3BA-ED8B-4414-AED4-43D3EFBC5EB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In Order to Stay Within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5760" y="1371600"/>
          <a:ext cx="8237520" cy="4343400"/>
        </p:xfrm>
        <a:graphic>
          <a:graphicData uri="http://schemas.openxmlformats.org/drawingml/2006/table">
            <a:tbl>
              <a:tblPr/>
              <a:tblGrid>
                <a:gridCol w="2947680"/>
                <a:gridCol w="528984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tion 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 minu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1000 wor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et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words; no more than 3 poems by same author; no more than five poems from any single an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, Lyrics, Vid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0 seco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otos &amp; Illustr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images from one author; Not more than 10% or 15 images from a single published collected 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merical Data S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f 2500 fields or ce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26"/>
          <p:cNvSpPr/>
          <p:nvPr/>
        </p:nvSpPr>
        <p:spPr>
          <a:xfrm>
            <a:off x="457200" y="914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the copyrighted work, use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mallest amoun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of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Ben</cp:lastModifiedBy>
  <dcterms:modified xsi:type="dcterms:W3CDTF">2011-01-25T01:30:01Z</dcterms:modified>
  <cp:revision>291</cp:revision>
  <dc:subject/>
  <dc:title>Copyright Chaos</dc:title>
</cp:coreProperties>
</file>